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D22D-2AF0-4863-8BB7-989686A60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54100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5451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268160"/>
            <a:ext cx="5451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5379-44CE-452F-A0D6-3C159A5E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54100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2660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50440" y="3352320"/>
            <a:ext cx="2660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2660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250440" y="4268160"/>
            <a:ext cx="2660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0A16-99C8-4FEC-97B0-040597DF8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54100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1755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00040" y="3352320"/>
            <a:ext cx="1755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43240" y="3352320"/>
            <a:ext cx="1755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268160"/>
            <a:ext cx="1755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00040" y="4268160"/>
            <a:ext cx="1755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143240" y="4268160"/>
            <a:ext cx="1755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69C8-E15B-4201-9E51-5505EBBE0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B99E-62BE-48F1-B151-57754DE53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54100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3352320"/>
            <a:ext cx="54514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343A-60F5-4BBA-94D1-2224C061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54100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54514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5575-6753-434F-A4CC-56CA176B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54100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2660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50440" y="3352320"/>
            <a:ext cx="2660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5ED4-16F5-4D38-A5D6-522BA749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54100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4DDB-64D1-4A33-B5C7-57B25D8C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541008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7D14-96B7-4E3F-9985-37F2E6EB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54100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2660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50440" y="3352320"/>
            <a:ext cx="2660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2660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F947-CABA-4ADF-89AC-0E17DDFD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54100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3352320"/>
            <a:ext cx="54514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51B2-BD8A-4063-8DED-7210D5A2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54100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2660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50440" y="3352320"/>
            <a:ext cx="2660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250440" y="4268160"/>
            <a:ext cx="2660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5131-A47C-49D8-8603-32E5FC53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54100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2660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250440" y="3352320"/>
            <a:ext cx="2660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5451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9A82-B873-49F2-B821-EC4DC7E9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54100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5451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268160"/>
            <a:ext cx="5451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96C4-3CCB-4A11-9601-B920EF07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54100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2660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50440" y="3352320"/>
            <a:ext cx="2660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2660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250440" y="4268160"/>
            <a:ext cx="2660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9D13-A242-4B81-84F6-E43E069B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54100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1755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300040" y="3352320"/>
            <a:ext cx="1755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43240" y="3352320"/>
            <a:ext cx="1755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268160"/>
            <a:ext cx="1755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300040" y="4268160"/>
            <a:ext cx="1755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143240" y="4268160"/>
            <a:ext cx="1755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93EF-F83A-49FD-BC0E-5D1951DD1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54100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54514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60C0-AA8A-44A9-92F0-8EBF194F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54100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2660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250440" y="3352320"/>
            <a:ext cx="2660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492C-4FA5-4166-9E4A-332F99AA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54100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2CE9-AE40-417E-8E6A-48FB0BE5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541008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7D5A-035A-4983-AF77-961F9D92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54100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2660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250440" y="3352320"/>
            <a:ext cx="2660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2660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6016-30D7-481E-8BF9-01320C39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54100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2660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250440" y="3352320"/>
            <a:ext cx="2660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50440" y="4268160"/>
            <a:ext cx="2660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1D4F-1EA4-4EA8-A241-F5451A7D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54100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2660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250440" y="3352320"/>
            <a:ext cx="2660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5451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99AE-0B5A-402A-A8EC-4A1D47A9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8305560" cy="838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39BC-7984-43C0-B355-3675FA388AEC}" type="slidenum">
              <a:rPr b="1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304560" y="2057040"/>
            <a:ext cx="83055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3300"/>
              </a:buClr>
              <a:buSzPct val="8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3300"/>
              </a:buClr>
              <a:buSzPct val="8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3300"/>
              </a:buClr>
              <a:buSzPct val="8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003300"/>
              </a:buClr>
              <a:buSzPct val="8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003300"/>
              </a:buClr>
              <a:buSzPct val="8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003300"/>
              </a:buClr>
              <a:buSzPct val="8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003300"/>
              </a:buClr>
              <a:buSzPct val="8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54100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094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D4ED-B2F6-4920-AB89-9A0847BDF4C9}" type="slidenum">
              <a:rPr b="1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SzPct val="80000"/>
              <a:buFont typeface="Wingdings" charset="2"/>
              <a:buChar char="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SzPct val="80000"/>
              <a:buFont typeface="Wingdings" charset="2"/>
              <a:buChar char="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SzPct val="80000"/>
              <a:buFont typeface="Wingdings" charset="2"/>
              <a:buChar char="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SzPct val="8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SzPct val="8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1676160"/>
            <a:ext cx="48769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merican Typewriter Condensed"/>
              </a:rPr>
              <a:t>What are the two islands in danger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merican Typewriter Condensed"/>
              </a:rPr>
              <a:t>Why are they in danger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merican Typewriter Condensed"/>
              </a:rPr>
              <a:t>What are they trying to accomplish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6:25:11Z</dcterms:created>
  <dc:creator>PA Department of Education</dc:creator>
  <dc:description/>
  <dc:language>en-US</dc:language>
  <cp:lastModifiedBy>PA Department of Education</cp:lastModifiedBy>
  <dcterms:modified xsi:type="dcterms:W3CDTF">2009-05-27T16:29:24Z</dcterms:modified>
  <cp:revision>1</cp:revision>
  <dc:subject/>
  <dc:title>PowerPoint Presentation</dc:title>
</cp:coreProperties>
</file>